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4848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d6ecff">
                <a:alpha val="50000"/>
              </a:srgbClr>
            </a:outerShdw>
          </a:effectLst>
        </p:spPr>
      </p:pic>
      <p:grpSp>
        <p:nvGrpSpPr>
          <p:cNvPr id="37" name="Group 4"/>
          <p:cNvGrpSpPr/>
          <p:nvPr/>
        </p:nvGrpSpPr>
        <p:grpSpPr>
          <a:xfrm>
            <a:off x="7543800" y="5943600"/>
            <a:ext cx="2209680" cy="533520"/>
            <a:chOff x="7543800" y="5943600"/>
            <a:chExt cx="2209680" cy="533520"/>
          </a:xfrm>
        </p:grpSpPr>
        <p:sp>
          <p:nvSpPr>
            <p:cNvPr id="38" name="Freeform 5"/>
            <p:cNvSpPr/>
            <p:nvPr/>
          </p:nvSpPr>
          <p:spPr>
            <a:xfrm>
              <a:off x="9518040" y="6314040"/>
              <a:ext cx="34560" cy="19800"/>
            </a:xfrm>
            <a:prstGeom prst="pie">
              <a:avLst/>
            </a:prstGeom>
            <a:solidFill>
              <a:srgbClr val="e51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Calibri"/>
              </a:endParaRPr>
            </a:p>
          </p:txBody>
        </p:sp>
        <p:sp>
          <p:nvSpPr>
            <p:cNvPr id="39" name="Freeform 6"/>
            <p:cNvSpPr/>
            <p:nvPr/>
          </p:nvSpPr>
          <p:spPr>
            <a:xfrm>
              <a:off x="7543800" y="5943600"/>
              <a:ext cx="2209680" cy="403560"/>
            </a:xfrm>
            <a:prstGeom prst="pie">
              <a:avLst/>
            </a:prstGeom>
            <a:solidFill>
              <a:srgbClr val="e51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Calibri"/>
              </a:endParaRPr>
            </a:p>
          </p:txBody>
        </p:sp>
        <p:grpSp>
          <p:nvGrpSpPr>
            <p:cNvPr id="40" name="Group 7"/>
            <p:cNvGrpSpPr/>
            <p:nvPr/>
          </p:nvGrpSpPr>
          <p:grpSpPr>
            <a:xfrm>
              <a:off x="7967880" y="6374520"/>
              <a:ext cx="1432440" cy="102600"/>
              <a:chOff x="7967880" y="6374520"/>
              <a:chExt cx="1432440" cy="102600"/>
            </a:xfrm>
          </p:grpSpPr>
          <p:pic>
            <p:nvPicPr>
              <p:cNvPr id="4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04480" y="6374520"/>
                <a:ext cx="18864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Freeform 9"/>
              <p:cNvSpPr/>
              <p:nvPr/>
            </p:nvSpPr>
            <p:spPr>
              <a:xfrm>
                <a:off x="8375040" y="6381720"/>
                <a:ext cx="72360" cy="36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3" name="Freeform 10"/>
              <p:cNvSpPr/>
              <p:nvPr/>
            </p:nvSpPr>
            <p:spPr>
              <a:xfrm>
                <a:off x="8379360" y="6412680"/>
                <a:ext cx="93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4" name="Freeform 11"/>
              <p:cNvSpPr/>
              <p:nvPr/>
            </p:nvSpPr>
            <p:spPr>
              <a:xfrm>
                <a:off x="7967880" y="6402600"/>
                <a:ext cx="4680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5" name="Freeform 12"/>
              <p:cNvSpPr/>
              <p:nvPr/>
            </p:nvSpPr>
            <p:spPr>
              <a:xfrm>
                <a:off x="8045640" y="6402600"/>
                <a:ext cx="176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6" name="Freeform 13"/>
              <p:cNvSpPr/>
              <p:nvPr/>
            </p:nvSpPr>
            <p:spPr>
              <a:xfrm>
                <a:off x="8094960" y="6402600"/>
                <a:ext cx="698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7" name="Freeform 14"/>
              <p:cNvSpPr/>
              <p:nvPr/>
            </p:nvSpPr>
            <p:spPr>
              <a:xfrm>
                <a:off x="8192880" y="6403320"/>
                <a:ext cx="47520" cy="475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8" name="Freeform 15"/>
              <p:cNvSpPr/>
              <p:nvPr/>
            </p:nvSpPr>
            <p:spPr>
              <a:xfrm>
                <a:off x="8557200" y="6403320"/>
                <a:ext cx="5976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49" name="Freeform 16"/>
              <p:cNvSpPr/>
              <p:nvPr/>
            </p:nvSpPr>
            <p:spPr>
              <a:xfrm>
                <a:off x="8644680" y="6402600"/>
                <a:ext cx="80640" cy="4860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0" name="Freeform 17"/>
              <p:cNvSpPr/>
              <p:nvPr/>
            </p:nvSpPr>
            <p:spPr>
              <a:xfrm>
                <a:off x="8754120" y="6402600"/>
                <a:ext cx="57600" cy="4860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1" name="Freeform 18"/>
              <p:cNvSpPr/>
              <p:nvPr/>
            </p:nvSpPr>
            <p:spPr>
              <a:xfrm>
                <a:off x="8848440" y="6402600"/>
                <a:ext cx="176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2" name="Freeform 19"/>
              <p:cNvSpPr/>
              <p:nvPr/>
            </p:nvSpPr>
            <p:spPr>
              <a:xfrm>
                <a:off x="8899920" y="6403320"/>
                <a:ext cx="5832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3" name="Freeform 20"/>
              <p:cNvSpPr/>
              <p:nvPr/>
            </p:nvSpPr>
            <p:spPr>
              <a:xfrm>
                <a:off x="8991360" y="6402600"/>
                <a:ext cx="176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4" name="Freeform 21"/>
              <p:cNvSpPr/>
              <p:nvPr/>
            </p:nvSpPr>
            <p:spPr>
              <a:xfrm>
                <a:off x="9042120" y="6402600"/>
                <a:ext cx="6948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5" name="Freeform 22"/>
              <p:cNvSpPr/>
              <p:nvPr/>
            </p:nvSpPr>
            <p:spPr>
              <a:xfrm>
                <a:off x="9143280" y="6403320"/>
                <a:ext cx="47520" cy="475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6" name="Freeform 23"/>
              <p:cNvSpPr/>
              <p:nvPr/>
            </p:nvSpPr>
            <p:spPr>
              <a:xfrm>
                <a:off x="9226800" y="6402600"/>
                <a:ext cx="4644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7" name="Freeform 24"/>
              <p:cNvSpPr/>
              <p:nvPr/>
            </p:nvSpPr>
            <p:spPr>
              <a:xfrm>
                <a:off x="9284040" y="6402600"/>
                <a:ext cx="644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8" name="Freeform 25"/>
              <p:cNvSpPr/>
              <p:nvPr/>
            </p:nvSpPr>
            <p:spPr>
              <a:xfrm>
                <a:off x="9366480" y="6402600"/>
                <a:ext cx="13320" cy="97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59" name="Freeform 26"/>
              <p:cNvSpPr/>
              <p:nvPr/>
            </p:nvSpPr>
            <p:spPr>
              <a:xfrm>
                <a:off x="9382680" y="6402600"/>
                <a:ext cx="17640" cy="97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TextBox 25"/>
          <p:cNvSpPr/>
          <p:nvPr/>
        </p:nvSpPr>
        <p:spPr>
          <a:xfrm>
            <a:off x="114300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希望学校（打工子弟学校）绿色活动报告</a:t>
            </a:r>
            <a:endParaRPr b="1" lang="en-US" sz="28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1" name="TextBox 26"/>
          <p:cNvSpPr/>
          <p:nvPr/>
        </p:nvSpPr>
        <p:spPr>
          <a:xfrm>
            <a:off x="2666880" y="4267080"/>
            <a:ext cx="487692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实践大学名称： </a:t>
            </a:r>
            <a:r>
              <a:rPr b="0" lang="zh-CN" sz="14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                             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绿色支队名称： </a:t>
            </a:r>
            <a:r>
              <a:rPr b="0" lang="zh-CN" sz="14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                             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实践学校名称： </a:t>
            </a:r>
            <a:r>
              <a:rPr b="0" lang="zh-CN" sz="14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                             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 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绿色支队负责人：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其他支队成员：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宋体"/>
                <a:ea typeface="宋体"/>
              </a:rPr>
              <a:t>指导教师：</a:t>
            </a:r>
            <a:endParaRPr b="1" lang="en-US" sz="1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4848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d6ecff">
                <a:alpha val="50000"/>
              </a:srgbClr>
            </a:outerShdw>
          </a:effectLst>
        </p:spPr>
      </p:pic>
      <p:sp>
        <p:nvSpPr>
          <p:cNvPr id="64" name="Text Box 5"/>
          <p:cNvSpPr/>
          <p:nvPr/>
        </p:nvSpPr>
        <p:spPr>
          <a:xfrm>
            <a:off x="2743200" y="3809880"/>
            <a:ext cx="5105520" cy="143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4c7d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00"/>
                </a:solidFill>
                <a:latin typeface="Arial"/>
                <a:ea typeface="宋体"/>
              </a:rPr>
              <a:t>Thanks</a:t>
            </a:r>
            <a:r>
              <a:rPr b="0" lang="zh-CN" sz="8800" spc="-1" strike="noStrike">
                <a:solidFill>
                  <a:srgbClr val="006600"/>
                </a:solidFill>
                <a:latin typeface="Arial"/>
                <a:ea typeface="宋体"/>
              </a:rPr>
              <a:t>！</a:t>
            </a:r>
            <a:endParaRPr b="1" lang="en-US" sz="8800" spc="-1" strike="noStrike">
              <a:solidFill>
                <a:srgbClr val="0066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7543800" y="5943600"/>
            <a:ext cx="2209680" cy="533520"/>
            <a:chOff x="7543800" y="5943600"/>
            <a:chExt cx="2209680" cy="533520"/>
          </a:xfrm>
        </p:grpSpPr>
        <p:sp>
          <p:nvSpPr>
            <p:cNvPr id="66" name="Freeform 5"/>
            <p:cNvSpPr/>
            <p:nvPr/>
          </p:nvSpPr>
          <p:spPr>
            <a:xfrm>
              <a:off x="9518040" y="6314040"/>
              <a:ext cx="34560" cy="19800"/>
            </a:xfrm>
            <a:prstGeom prst="pie">
              <a:avLst/>
            </a:prstGeom>
            <a:solidFill>
              <a:srgbClr val="e51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Calibri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7543800" y="5943600"/>
              <a:ext cx="2209680" cy="403560"/>
            </a:xfrm>
            <a:prstGeom prst="pie">
              <a:avLst/>
            </a:prstGeom>
            <a:solidFill>
              <a:srgbClr val="e51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6600"/>
                </a:solidFill>
                <a:latin typeface="Calibri"/>
              </a:endParaRPr>
            </a:p>
          </p:txBody>
        </p:sp>
        <p:grpSp>
          <p:nvGrpSpPr>
            <p:cNvPr id="68" name="Group 7"/>
            <p:cNvGrpSpPr/>
            <p:nvPr/>
          </p:nvGrpSpPr>
          <p:grpSpPr>
            <a:xfrm>
              <a:off x="7967880" y="6374520"/>
              <a:ext cx="1432440" cy="102600"/>
              <a:chOff x="7967880" y="6374520"/>
              <a:chExt cx="1432440" cy="102600"/>
            </a:xfrm>
          </p:grpSpPr>
          <p:pic>
            <p:nvPicPr>
              <p:cNvPr id="6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304480" y="6374520"/>
                <a:ext cx="18864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Freeform 9"/>
              <p:cNvSpPr/>
              <p:nvPr/>
            </p:nvSpPr>
            <p:spPr>
              <a:xfrm>
                <a:off x="8375040" y="6381720"/>
                <a:ext cx="72360" cy="36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379360" y="6412680"/>
                <a:ext cx="93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7967880" y="6402600"/>
                <a:ext cx="4680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8045640" y="6402600"/>
                <a:ext cx="176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8094960" y="6402600"/>
                <a:ext cx="698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8192880" y="6403320"/>
                <a:ext cx="47520" cy="475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8557200" y="6403320"/>
                <a:ext cx="5976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8644680" y="6402600"/>
                <a:ext cx="80640" cy="4860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8754120" y="6402600"/>
                <a:ext cx="57600" cy="4860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8848440" y="6402600"/>
                <a:ext cx="176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8899920" y="6403320"/>
                <a:ext cx="5832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8991360" y="6402600"/>
                <a:ext cx="176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9042120" y="6402600"/>
                <a:ext cx="6948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>
                <a:off x="9143280" y="6403320"/>
                <a:ext cx="47520" cy="475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4" name="Freeform 23"/>
              <p:cNvSpPr/>
              <p:nvPr/>
            </p:nvSpPr>
            <p:spPr>
              <a:xfrm>
                <a:off x="9226800" y="6402600"/>
                <a:ext cx="46440" cy="4788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9284040" y="6402600"/>
                <a:ext cx="64440" cy="4824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9366480" y="6402600"/>
                <a:ext cx="13320" cy="97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9382680" y="6402600"/>
                <a:ext cx="17640" cy="9720"/>
              </a:xfrm>
              <a:prstGeom prst="pie">
                <a:avLst/>
              </a:prstGeom>
              <a:solidFill>
                <a:srgbClr val="e51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66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1"/>
          <p:cNvSpPr/>
          <p:nvPr/>
        </p:nvSpPr>
        <p:spPr>
          <a:xfrm>
            <a:off x="380880" y="1066680"/>
            <a:ext cx="883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撰写说明：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一、内容要求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宋体"/>
                <a:ea typeface="宋体"/>
              </a:rPr>
              <a:t>1.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本报告由四部分内容组成，分别为实践学校介绍、实践内容阐述、实践成果展示和实践总结。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宋体"/>
                <a:ea typeface="宋体"/>
              </a:rPr>
              <a:t>2.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学校介绍：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华文楷体"/>
              </a:rPr>
              <a:t>◎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大学基本情况（学校简介，包括学校面积、师生人数等情况）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华文楷体"/>
              </a:rPr>
              <a:t>◎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学校基本情况（对口学校简介，包括学校面积、师生人数等情况）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宋体"/>
                <a:ea typeface="宋体"/>
              </a:rPr>
              <a:t>3.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内容阐述：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华文楷体"/>
              </a:rPr>
              <a:t>◎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学校实践过程概述（包括时间、地点、具体实践内容和完成数字、每项活动的图片）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华文楷体"/>
              </a:rPr>
              <a:t>◎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其它需要特别说明的实践活动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宋体"/>
                <a:ea typeface="宋体"/>
              </a:rPr>
              <a:t>4.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成果展示和实践总结：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华文楷体"/>
              </a:rPr>
              <a:t>◎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成果展示（节水项目需有节水数据统计，其他项目需有图片等支持）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华文楷体"/>
              </a:rPr>
              <a:t>◎</a:t>
            </a: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实践总结（包括实践感受、实践点评、建议等）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二、格式要求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宋体"/>
                <a:ea typeface="宋体"/>
              </a:rPr>
              <a:t>总结需采用本模板，具体格式可因内容自定，但须保证字号、图片大小、字体颜色等采用统一格式。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                   </a:t>
            </a:r>
            <a:r>
              <a:rPr b="1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总结中，无须加入本篇说明。）</a:t>
            </a: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8:24:18Z</dcterms:created>
  <dc:creator>Lenovo User</dc:creator>
  <dc:description/>
  <dc:language>en-US</dc:language>
  <cp:lastModifiedBy>User</cp:lastModifiedBy>
  <dcterms:modified xsi:type="dcterms:W3CDTF">2011-03-29T05:53:07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RRENTCLASS">
    <vt:lpwstr>Classified - Internal use</vt:lpwstr>
  </property>
  <property fmtid="{D5CDD505-2E9C-101B-9397-08002B2CF9AE}" pid="3" name="FILEGUID">
    <vt:lpwstr>220da4cb-1b62-48dc-bb78-62ec533851f2</vt:lpwstr>
  </property>
  <property fmtid="{D5CDD505-2E9C-101B-9397-08002B2CF9AE}" pid="4" name="FILEOWNER">
    <vt:lpwstr>n50654</vt:lpwstr>
  </property>
  <property fmtid="{D5CDD505-2E9C-101B-9397-08002B2CF9AE}" pid="5" name="IPPCLASS">
    <vt:r8>1</vt:r8>
  </property>
  <property fmtid="{D5CDD505-2E9C-101B-9397-08002B2CF9AE}" pid="6" name="MACHINEID">
    <vt:lpwstr>N50654-HK01</vt:lpwstr>
  </property>
  <property fmtid="{D5CDD505-2E9C-101B-9397-08002B2CF9AE}" pid="7" name="MODFILEGUID">
    <vt:lpwstr>5a1416e1-d69d-4228-a799-a443b4c49849</vt:lpwstr>
  </property>
  <property fmtid="{D5CDD505-2E9C-101B-9397-08002B2CF9AE}" pid="8" name="MODFILEOWNER">
    <vt:lpwstr>n50985</vt:lpwstr>
  </property>
  <property fmtid="{D5CDD505-2E9C-101B-9397-08002B2CF9AE}" pid="9" name="MODIPPCLASS">
    <vt:r8>1</vt:r8>
  </property>
  <property fmtid="{D5CDD505-2E9C-101B-9397-08002B2CF9AE}" pid="10" name="MODMACHINEID">
    <vt:lpwstr>N50985-BJ01</vt:lpwstr>
  </property>
</Properties>
</file>